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3C9-2D81-40F6-AB66-082BFF49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3AA-B44A-4F18-B071-A101FF1B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D96-8870-4952-8FD5-9EE28FF1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760-6119-4367-9506-4E62F223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186-7D7C-4C61-93CC-5A903D12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F91-ED73-481F-82A3-710A47D0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FF-FC7E-40B6-96A2-90612D55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F67-3421-4ED4-B4CF-CEC5EA8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0E3-8245-4982-88E7-B37E35B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BC2-5506-4927-BAA3-16E16B9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E85-5F17-46FA-8986-2112BCC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A1A-17B9-4D3F-AE35-97426B0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3E93-0898-4197-B59C-2D8D0D64D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FPG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Programmable Gate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81788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ne II 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620120" cy="508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а режима ра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ормал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ритмети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ne II L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– нормални м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one II LE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– аритметички м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1359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вез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Д матрица жица које у пресеку имају конфигурабилне везе (два слајда напре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ог ефикаснијег повезивања веома често постоји више типова в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не које повезују суседне еле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не које повезују прве несуседне елемент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не које повезују сваких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и, где 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 број већи од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ајње еле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вез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523880" y="1625760"/>
            <a:ext cx="57913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фигурабилне ве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360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и в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20560" y="787320"/>
            <a:ext cx="30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 - Logic Arra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LAB structure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контролни сигн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2004840"/>
            <a:ext cx="822960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блок по п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ћност конфигу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а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дирекци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нхронизац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хрон са сигналом т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из других могућности(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-up, pull-down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тпорници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n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03600" y="1963800"/>
            <a:ext cx="3735360" cy="379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конфигурабил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L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терно повези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е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менске компоненте на ч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нож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мор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ола та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бр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п се прави од полупрово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чешће силициј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стална решетка силицијума је слаб прово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дају се други е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рупа V (n-тип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рупа III (p-тип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4351320"/>
          <a:ext cx="441972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351320"/>
                    <a:ext cx="441972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N Спо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ја може да тече у једном с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MOS транзи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– oxide – semiconductor (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2057400" y="2362320"/>
          <a:ext cx="53452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534528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OS транзи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– oxide – semiconductor (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533520" y="2895480"/>
          <a:ext cx="547200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547200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проводник са мало несилицијумових атом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контакту са напајањем или нулом преко мета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 Шотки д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зистори и жице се праве помоћу м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33520" y="243828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ст м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аци у фабрик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не се са празним ваф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вертер се прави од дна ка в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рави се p-subst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корак формирати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ви се заштита SiO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лони се део заштите тамо где ће бити n-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бризгати n атоме у ваф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инути зашт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рејати вафер у присуству кисе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n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21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нети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toresist је органски полимер осетљив на светл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мекша кад се изложи на светл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ограф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ложити photoresist кроз n-well м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лонити омекшали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идање окс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рганска киселина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ски полимер не реагуј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неорганском кисел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лањање Photoresist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аве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м неке орга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се формира дифузијо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имплементацијом 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идање окс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лањање оксида неорганском кисел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-дифу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иковати оксид и направити n+ реги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4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-дифу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ацити ат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-дифу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лонити окс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а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ребно да се повежу разлити уређ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ити чип са танким слојем 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инути оксид где су потребни конта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PGA –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дности и 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лативно јефт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лики капац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гућност репрограмирања чак када је производ испоруч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атко време разво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и капацитет и брзина у односу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-Custom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ребни софистицирани ал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ал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вити алуминијум преко целог ваф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PGA –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дности и 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-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разво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производа (у великом серијам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ћност измене након фабрик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ћ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огућ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форман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вис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стина паков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вис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ошња енерг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на величина сер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ност дизај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ност тестир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за исправку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е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LB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ble Logic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8178840" cy="41720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152280" y="533520"/>
            <a:ext cx="1828800" cy="1523880"/>
          </a:xfrm>
          <a:prstGeom prst="wedgeRectCallout">
            <a:avLst>
              <a:gd name="adj1" fmla="val 101736"/>
              <a:gd name="adj2" fmla="val 8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е формирати произвољну логичку функ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086600" y="838080"/>
            <a:ext cx="1676520" cy="990720"/>
          </a:xfrm>
          <a:prstGeom prst="wedgeRectCallout">
            <a:avLst>
              <a:gd name="adj1" fmla="val -102745"/>
              <a:gd name="adj2" fmla="val 123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хрон или асинхрон из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781680" y="5181480"/>
            <a:ext cx="1828800" cy="1295640"/>
          </a:xfrm>
          <a:prstGeom prst="wedgeRectCallout">
            <a:avLst>
              <a:gd name="adj1" fmla="val -82898"/>
              <a:gd name="adj2" fmla="val -43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инуални излаз или са сигналом дозв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LB -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ријан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зависности од конкретног чипа мења 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ој и величина лут табе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ој и врста меморијских елемен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терна комбинациона логика (могућност интерног повезивањ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датне функционал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L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-Up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битна мем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и су везани на адресне ли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 је садржај меморије са адресе описане текућим вредностима на у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ксно кашњ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17240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мплементација логичких функ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поставка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е се рашчлањују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улаз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а функција се мапира на једа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зивање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B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 се формира тражена 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vojin Sustran</dc:creator>
  <dc:description/>
  <dc:language>en-US</dc:language>
  <cp:lastModifiedBy>Zivojin Sustran</cp:lastModifiedBy>
  <dcterms:modified xsi:type="dcterms:W3CDTF">2015-12-15T09:36:54Z</dcterms:modified>
  <cp:revision>6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